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E1DA6-02B8-40E6-A25B-574FA2572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23A5E-4FF3-4FE8-A0DC-44C070C8A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A6E8D-713B-45D6-8B92-846762BFA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06006-52A9-49FA-B9DE-A5EC6B3AA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3E011-500C-47E3-938C-D78D3B3E5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CE27D-FCE8-4637-A619-8B06F2AA2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6AB0D-3273-464A-98B1-A5AAD66F2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AEE9F-63A0-44BE-91CB-004AA9D4D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40ACD-460C-41D0-A44B-B76361BC3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0BF72-6BCE-4A83-97A5-E4364DB36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DDE3F-CE00-4468-AA91-28DE81EC9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FB1A8-1845-45C1-975F-C1B7C15FA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1BDFE-EB7B-47D1-9FF7-A3193D5EC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59BEC-0F5D-48BE-A6E5-0C2763315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C17EA-60FC-4883-8E39-863C3CE5A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35674-52D2-460A-8AC7-3912D3C3D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9037F-4CAB-4CA7-A4FD-93005B863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BDC4E6-F508-444F-BEE3-6E97D19B8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7390AF-0D94-4BEF-B37B-89A5EF1AB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A52B76-F364-4CBB-93D9-BA56CFF1D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A161C2-0B1D-42FB-9CF9-60F47C2A1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C63BD1-C373-4A68-A3C7-8C71A22AD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CD484-D9D2-4DC5-ACE6-8F9D3C347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188B44-EB54-4FE3-93AA-32A375175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FF702C-B084-4186-B597-DEB47A1F5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05BAC9-3E40-4D37-85E7-86EE973A5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23EB61-0AA0-4938-AB0D-31A6EA4AB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C3D343-CE6D-4EB6-BDA7-39308A76D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396FF2-A164-468C-83B1-6627E7BB5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F35482-7453-4D18-AEA9-515F45714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CE58D-7AC8-43BE-BDBE-FBE2ECB5B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BBD01-B366-4559-89AC-1F4EC9B19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F609B-2659-4536-A37F-79AF5392E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D05A6-E83F-4D6F-8A9F-9A2D5B88E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385A5-1B61-4221-A860-F1707C949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1CD3F-D55F-4EB4-865D-31AC7A157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7163A-054A-4F44-BE9F-EDB799DA7CF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38080" y="561960"/>
            <a:ext cx="152640" cy="10666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8263080" y="270000"/>
            <a:ext cx="152280" cy="10731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870F1-D5B9-40C4-94BD-1436BD01448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49" name="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</p:grpSp>
      <p:sp>
        <p:nvSpPr>
          <p:cNvPr id="54" name="PlaceHolder 4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  <a:p>
            <a:pPr lvl="1" marL="4492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Times New Roman"/>
            </a:endParaRPr>
          </a:p>
          <a:p>
            <a:pPr lvl="2" marL="890640" algn="ctr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  <a:p>
            <a:pPr lvl="3" marL="1295280" algn="ctr">
              <a:spcBef>
                <a:spcPts val="4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Times New Roman"/>
            </a:endParaRPr>
          </a:p>
          <a:p>
            <a:pPr lvl="4" marL="1682640" algn="ctr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292929"/>
              </a:solidFill>
              <a:latin typeface="Times New Roman"/>
            </a:endParaRPr>
          </a:p>
          <a:p>
            <a:pPr lvl="5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292929"/>
              </a:solidFill>
              <a:latin typeface="Times New Roman"/>
            </a:endParaRPr>
          </a:p>
          <a:p>
            <a:pPr lvl="6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29292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259FA-E493-4B30-8447-615A7E4E6F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hyperlink" Target="http://www.cbr.ru/" TargetMode="External"/><Relationship Id="rId2" Type="http://schemas.openxmlformats.org/officeDocument/2006/relationships/hyperlink" Target="http://www.eeg.ru/" TargetMode="External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Макроэкономик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2285640" y="3581280"/>
            <a:ext cx="56386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Times New Roman"/>
              </a:rPr>
              <a:t>Проблемы фискальной и монетарной политики</a:t>
            </a: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Модель Кидлэнда-Прескотт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79280" y="1844280"/>
            <a:ext cx="878544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Times New Roman"/>
              </a:rPr>
              <a:t>Монетарная политика может строиться по двум принципам:</a:t>
            </a: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29"/>
                </a:solidFill>
                <a:latin typeface="Times New Roman"/>
              </a:rPr>
              <a:t>Связывающее обязательство (политика правил) – </a:t>
            </a:r>
            <a:r>
              <a:rPr b="0" i="1" lang="en-US" sz="2800" spc="-1" strike="noStrike">
                <a:solidFill>
                  <a:srgbClr val="cc9900"/>
                </a:solidFill>
                <a:latin typeface="Times New Roman"/>
              </a:rPr>
              <a:t>binding commitment </a:t>
            </a:r>
            <a:r>
              <a:rPr b="0" lang="en-US" sz="2800" spc="-1" strike="noStrike">
                <a:solidFill>
                  <a:srgbClr val="cc99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cc9900"/>
                </a:solidFill>
                <a:latin typeface="Times New Roman"/>
              </a:rPr>
              <a:t>policy rules</a:t>
            </a:r>
            <a:r>
              <a:rPr b="0" lang="en-US" sz="2800" spc="-1" strike="noStrike">
                <a:solidFill>
                  <a:srgbClr val="cc99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292929"/>
              </a:solidFill>
              <a:latin typeface="Times New Roman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29"/>
                </a:solidFill>
                <a:latin typeface="Times New Roman"/>
              </a:rPr>
              <a:t>Отсутствие обязательств (дискреционная политика) - </a:t>
            </a:r>
            <a:r>
              <a:rPr b="0" i="1" lang="en-US" sz="2800" spc="-1" strike="noStrike">
                <a:solidFill>
                  <a:srgbClr val="cc9900"/>
                </a:solidFill>
                <a:latin typeface="Times New Roman"/>
              </a:rPr>
              <a:t>discretion</a:t>
            </a:r>
            <a:endParaRPr b="0" lang="en-US" sz="2800" spc="-1" strike="noStrike">
              <a:solidFill>
                <a:srgbClr val="29292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Модель Кидлэнда-Прескотт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0" y="1700280"/>
            <a:ext cx="91440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Times New Roman"/>
              </a:rPr>
              <a:t>Если политик дает </a:t>
            </a:r>
            <a:r>
              <a:rPr b="0" i="1" lang="ru-RU" sz="3200" spc="-1" strike="noStrike">
                <a:solidFill>
                  <a:srgbClr val="292929"/>
                </a:solidFill>
                <a:latin typeface="Times New Roman"/>
              </a:rPr>
              <a:t>связывающее обязательство</a:t>
            </a:r>
            <a:r>
              <a:rPr b="0" lang="ru-RU" sz="3200" spc="-1" strike="noStrike">
                <a:solidFill>
                  <a:srgbClr val="292929"/>
                </a:solidFill>
                <a:latin typeface="Times New Roman"/>
              </a:rPr>
              <a:t> в отношении инфляции до формирования инфляционных ожиданий, то </a:t>
            </a:r>
            <a:r>
              <a:rPr b="0" i="1" lang="el-GR" sz="32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π</a:t>
            </a:r>
            <a:r>
              <a:rPr b="0" lang="ru-RU" sz="32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 = </a:t>
            </a:r>
            <a:r>
              <a:rPr b="0" i="1" lang="el-GR" sz="32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π</a:t>
            </a:r>
            <a:r>
              <a:rPr b="0" i="1" lang="en-US" sz="3200" spc="-1" strike="noStrike" baseline="30000">
                <a:solidFill>
                  <a:srgbClr val="292929"/>
                </a:solidFill>
                <a:latin typeface="Times New Roman"/>
                <a:ea typeface="Times New Roman"/>
              </a:rPr>
              <a:t>e</a:t>
            </a: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Times New Roman"/>
              </a:rPr>
              <a:t>Из (35) следует, что</a:t>
            </a: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Times New Roman"/>
              </a:rPr>
              <a:t>Тогда политик должен минимизировать:</a:t>
            </a: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4140360" y="3357720"/>
                <a:ext cx="1052280" cy="52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539640" y="4365720"/>
                <a:ext cx="6045480" cy="104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37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L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(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−</m:t>
                    </m:r>
                    <m:r>
                      <m:t xml:space="preserve">y</m:t>
                    </m:r>
                    <m:r>
                      <m:t xml:space="preserve">∗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a</m:t>
                    </m:r>
                    <m:r>
                      <m:t xml:space="preserve">(</m:t>
                    </m:r>
                    <m:r>
                      <m:t xml:space="preserve">π</m:t>
                    </m:r>
                    <m:r>
                      <m:t xml:space="preserve">−</m:t>
                    </m:r>
                    <m:r>
                      <m:t xml:space="preserve">π</m:t>
                    </m:r>
                    <m:r>
                      <m:t xml:space="preserve">∗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70" name=""/>
          <p:cNvSpPr/>
          <p:nvPr/>
        </p:nvSpPr>
        <p:spPr>
          <a:xfrm>
            <a:off x="0" y="5300640"/>
            <a:ext cx="90360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Times New Roman"/>
              </a:rPr>
              <a:t>Оптимальный выбор тривиален: </a:t>
            </a:r>
            <a:r>
              <a:rPr b="0" i="1" lang="el-GR" sz="32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π</a:t>
            </a:r>
            <a:r>
              <a:rPr b="0" lang="ru-RU" sz="32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 = </a:t>
            </a:r>
            <a:r>
              <a:rPr b="0" i="1" lang="el-GR" sz="32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π</a:t>
            </a:r>
            <a:r>
              <a:rPr b="0" i="1" lang="ru-RU" sz="32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*</a:t>
            </a: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539640" y="5813280"/>
                <a:ext cx="3770280" cy="104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38</m:t>
                    </m:r>
                    <m:r>
                      <m:t xml:space="preserve">)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L</m:t>
                        </m:r>
                      </m:e>
                      <m:sup>
                        <m:r>
                          <m:t xml:space="preserve">C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(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−</m:t>
                    </m:r>
                    <m:r>
                      <m:t xml:space="preserve">y</m:t>
                    </m:r>
                    <m:r>
                      <m:t xml:space="preserve">∗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Модель Кидлэнда-Прескотт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0" y="1700280"/>
            <a:ext cx="9144000" cy="22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Times New Roman"/>
              </a:rPr>
              <a:t>В </a:t>
            </a:r>
            <a:r>
              <a:rPr b="0" i="1" lang="en-US" sz="3200" spc="-1" strike="noStrike">
                <a:solidFill>
                  <a:srgbClr val="292929"/>
                </a:solidFill>
                <a:latin typeface="Times New Roman"/>
              </a:rPr>
              <a:t>отсутствие связывающего обязательства</a:t>
            </a:r>
            <a:r>
              <a:rPr b="0" lang="en-US" sz="3200" spc="-1" strike="noStrike">
                <a:solidFill>
                  <a:srgbClr val="292929"/>
                </a:solidFill>
                <a:latin typeface="Times New Roman"/>
              </a:rPr>
              <a:t> политик выбирает инфляцию, считая инфляционные ожидания сформированными </a:t>
            </a: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Times New Roman"/>
              </a:rPr>
              <a:t>С учетом (35), задача политика имеет вид:</a:t>
            </a: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468360" y="4221000"/>
                <a:ext cx="8207280" cy="108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39</m:t>
                    </m:r>
                    <m:r>
                      <m:t xml:space="preserve">)</m:t>
                    </m:r>
                    <m:r>
                      <m:t xml:space="preserve"> 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e>
                      <m:lim>
                        <m:r>
                          <m:t xml:space="preserve">π</m:t>
                        </m:r>
                      </m:lim>
                    </m:limLow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[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(</m:t>
                    </m:r>
                    <m:r>
                      <m:t xml:space="preserve">π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π</m:t>
                        </m:r>
                      </m:e>
                      <m:sup>
                        <m:r>
                          <m:t xml:space="preserve">e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y</m:t>
                    </m:r>
                    <m:r>
                      <m:t xml:space="preserve">∗</m:t>
                    </m:r>
                    <m:sSup>
                      <m:e>
                        <m:r>
                          <m:t xml:space="preserve">]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a</m:t>
                    </m:r>
                    <m:r>
                      <m:t xml:space="preserve">(</m:t>
                    </m:r>
                    <m:r>
                      <m:t xml:space="preserve">π</m:t>
                    </m:r>
                    <m:r>
                      <m:t xml:space="preserve">−</m:t>
                    </m:r>
                    <m:r>
                      <m:t xml:space="preserve">π</m:t>
                    </m:r>
                    <m:r>
                      <m:t xml:space="preserve">∗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Модель Кидлэнда-Прескотт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-360" y="2637000"/>
            <a:ext cx="828684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Times New Roman"/>
              </a:rPr>
              <a:t>Условие первого порядка (</a:t>
            </a:r>
            <a:r>
              <a:rPr b="0" lang="en-US" sz="3200" spc="-1" strike="noStrike">
                <a:solidFill>
                  <a:srgbClr val="292929"/>
                </a:solidFill>
                <a:latin typeface="Times New Roman"/>
              </a:rPr>
              <a:t>FOC)</a:t>
            </a:r>
            <a:r>
              <a:rPr b="0" lang="ru-RU" sz="3200" spc="-1" strike="noStrike">
                <a:solidFill>
                  <a:srgbClr val="292929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0" y="1628640"/>
                <a:ext cx="8207280" cy="108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39</m:t>
                    </m:r>
                    <m:r>
                      <m:t xml:space="preserve">)</m:t>
                    </m:r>
                    <m:r>
                      <m:t xml:space="preserve"> 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e>
                      <m:lim>
                        <m:r>
                          <m:t xml:space="preserve">π</m:t>
                        </m:r>
                      </m:lim>
                    </m:limLow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[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(</m:t>
                    </m:r>
                    <m:r>
                      <m:t xml:space="preserve">π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π</m:t>
                        </m:r>
                      </m:e>
                      <m:sup>
                        <m:r>
                          <m:t xml:space="preserve">e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y</m:t>
                    </m:r>
                    <m:r>
                      <m:t xml:space="preserve">∗</m:t>
                    </m:r>
                    <m:sSup>
                      <m:e>
                        <m:r>
                          <m:t xml:space="preserve">]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a</m:t>
                    </m:r>
                    <m:r>
                      <m:t xml:space="preserve">(</m:t>
                    </m:r>
                    <m:r>
                      <m:t xml:space="preserve">π</m:t>
                    </m:r>
                    <m:r>
                      <m:t xml:space="preserve">−</m:t>
                    </m:r>
                    <m:r>
                      <m:t xml:space="preserve">π</m:t>
                    </m:r>
                    <m:r>
                      <m:t xml:space="preserve">∗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79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0" y="3284640"/>
                <a:ext cx="6186600" cy="63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(</m:t>
                    </m:r>
                    <m:r>
                      <m:t xml:space="preserve">π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π</m:t>
                        </m:r>
                      </m:e>
                      <m:sup>
                        <m:r>
                          <m:t xml:space="preserve">e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]</m:t>
                    </m:r>
                    <m:r>
                      <m:t xml:space="preserve">b</m:t>
                    </m:r>
                    <m:r>
                      <m:t xml:space="preserve">+</m:t>
                    </m:r>
                    <m:r>
                      <m:t xml:space="preserve">a</m:t>
                    </m:r>
                    <m:r>
                      <m:t xml:space="preserve">(</m:t>
                    </m:r>
                    <m:r>
                      <m:t xml:space="preserve">π</m:t>
                    </m:r>
                    <m:r>
                      <m:t xml:space="preserve">−</m:t>
                    </m:r>
                    <m:r>
                      <m:t xml:space="preserve">π</m:t>
                    </m:r>
                    <m:r>
                      <m:t xml:space="preserve">∗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1" name=""/>
          <p:cNvSpPr/>
          <p:nvPr/>
        </p:nvSpPr>
        <p:spPr>
          <a:xfrm>
            <a:off x="0" y="3933720"/>
            <a:ext cx="82868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Times New Roman"/>
              </a:rPr>
              <a:t>Решение:</a:t>
            </a: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306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0" y="4551480"/>
                <a:ext cx="8170920" cy="230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π</m:t>
                        </m:r>
                        <m:r>
                          <m:t xml:space="preserve"></m:t>
                        </m:r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sSup>
                              <m:e>
                                <m:r>
                                  <m:t xml:space="preserve">π</m:t>
                                </m:r>
                              </m:e>
                              <m:sup>
                                <m:r>
                                  <m:t xml:space="preserve">e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aπ</m:t>
                            </m:r>
                            <m:r>
                              <m:t xml:space="preserve">∗</m:t>
                            </m:r>
                            <m:r>
                              <m:t xml:space="preserve">+</m:t>
                            </m:r>
                            <m:r>
                              <m:t xml:space="preserve">b</m:t>
                            </m:r>
                            <m:r>
                              <m:t xml:space="preserve">(</m:t>
                            </m:r>
                            <m:r>
                              <m:t xml:space="preserve">y</m:t>
                            </m:r>
                            <m:r>
                              <m:t xml:space="preserve">∗</m:t>
                            </m:r>
                            <m:r>
                              <m:t xml:space="preserve">−</m:t>
                            </m:r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r>
                          <m:t xml:space="preserve">π</m:t>
                        </m:r>
                        <m:r>
                          <m:t xml:space="preserve">∗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b</m:t>
                            </m:r>
                          </m:num>
                          <m:den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∗</m:t>
                        </m:r>
                        <m:r>
                          <m:t xml:space="preserve">−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  <m:r>
                          <m:t xml:space="preserve">)</m:t>
                        </m:r>
                        <m:r>
                          <m:t xml:space="preserve">+</m:t>
                        </m:r>
                        <m:f>
                          <m:num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(</m:t>
                        </m:r>
                        <m:sSup>
                          <m:e>
                            <m:r>
                              <m:t xml:space="preserve">π</m:t>
                            </m:r>
                          </m:e>
                          <m:sup>
                            <m:r>
                              <m:t xml:space="preserve">e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π</m:t>
                        </m:r>
                        <m:r>
                          <m:t xml:space="preserve">∗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Модель Кидлэнда-Прескотт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50560" y="1844280"/>
            <a:ext cx="878508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Times New Roman"/>
              </a:rPr>
              <a:t>У политика есть стимул выбирать экспансионистскую политику</a:t>
            </a: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Times New Roman"/>
              </a:rPr>
              <a:t>Если общество ожидает, что политик выберет оптимальный уровень инфляции, </a:t>
            </a:r>
            <a:r>
              <a:rPr b="0" i="1" lang="el-GR" sz="32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π</a:t>
            </a:r>
            <a:r>
              <a:rPr b="0" i="1" lang="ru-RU" sz="32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*</a:t>
            </a:r>
            <a:r>
              <a:rPr b="0" lang="ru-RU" sz="3200" spc="-1" strike="noStrike">
                <a:solidFill>
                  <a:srgbClr val="292929"/>
                </a:solidFill>
                <a:latin typeface="Times New Roman"/>
              </a:rPr>
              <a:t>, то предельные издержки от небольшого увеличения инфляции равны нулю, а предельная выгода от итогового увеличения выпуска положительна (т.к.             )</a:t>
            </a: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Times New Roman"/>
              </a:rPr>
              <a:t>В этой ситуации политик выбирает уровень инфляции, больший чем </a:t>
            </a:r>
            <a:r>
              <a:rPr b="0" i="1" lang="el-GR" sz="32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π</a:t>
            </a:r>
            <a:r>
              <a:rPr b="0" i="1" lang="ru-RU" sz="32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*</a:t>
            </a: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5724360" y="5084640"/>
                <a:ext cx="1187640" cy="50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∗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1258920" y="0"/>
            <a:ext cx="6985080" cy="686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Модель Кидлэнда-Прескотт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50920" y="1699920"/>
            <a:ext cx="864216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Times New Roman"/>
              </a:rPr>
              <a:t>Т.к. неопределенность отсутствует, в равновесии  </a:t>
            </a:r>
            <a:r>
              <a:rPr b="0" i="1" lang="el-GR" sz="32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π</a:t>
            </a:r>
            <a:r>
              <a:rPr b="0" lang="ru-RU" sz="32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 = </a:t>
            </a:r>
            <a:r>
              <a:rPr b="0" i="1" lang="el-GR" sz="32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π</a:t>
            </a:r>
            <a:r>
              <a:rPr b="0" i="1" lang="en-US" sz="3200" spc="-1" strike="noStrike" baseline="30000">
                <a:solidFill>
                  <a:srgbClr val="292929"/>
                </a:solidFill>
                <a:latin typeface="Times New Roman"/>
                <a:ea typeface="Times New Roman"/>
              </a:rPr>
              <a:t>e</a:t>
            </a: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Подставляя данное условие в (40), получаем:</a:t>
            </a: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395280" y="3141720"/>
                <a:ext cx="8275680" cy="115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π</m:t>
                    </m:r>
                    <m:r>
                      <m:t xml:space="preserve"></m:t>
                    </m:r>
                    <m:r>
                      <m:t xml:space="preserve">=</m:t>
                    </m:r>
                    <m:r>
                      <m:t xml:space="preserve">π</m:t>
                    </m:r>
                    <m:r>
                      <m:t xml:space="preserve">∗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a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−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a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(</m:t>
                    </m:r>
                    <m:sSup>
                      <m:e>
                        <m:r>
                          <m:t xml:space="preserve">π</m:t>
                        </m:r>
                      </m:e>
                      <m:sup>
                        <m:r>
                          <m:t xml:space="preserve">e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π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1" name=""/>
          <p:cNvSpPr/>
          <p:nvPr/>
        </p:nvSpPr>
        <p:spPr>
          <a:xfrm>
            <a:off x="0" y="31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395280" y="4292640"/>
                <a:ext cx="5657760" cy="108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41</m:t>
                    </m:r>
                    <m:r>
                      <m:t xml:space="preserve">)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π</m:t>
                        </m:r>
                      </m:e>
                      <m:sup>
                        <m:r>
                          <m:t xml:space="preserve">e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π</m:t>
                    </m:r>
                    <m:r>
                      <m:t xml:space="preserve">∗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−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)</m:t>
                    </m:r>
                    <m:r>
                      <m:t xml:space="preserve">≡</m:t>
                    </m:r>
                    <m:sSup>
                      <m:e>
                        <m:r>
                          <m:t xml:space="preserve">π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EQ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93" name=""/>
          <p:cNvSpPr/>
          <p:nvPr/>
        </p:nvSpPr>
        <p:spPr>
          <a:xfrm>
            <a:off x="250920" y="5273640"/>
            <a:ext cx="864216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Times New Roman"/>
              </a:rPr>
              <a:t>Т.к. в равновесии </a:t>
            </a:r>
            <a:r>
              <a:rPr b="0" i="1" lang="el-GR" sz="32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π</a:t>
            </a:r>
            <a:r>
              <a:rPr b="0" lang="ru-RU" sz="32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 = </a:t>
            </a:r>
            <a:r>
              <a:rPr b="0" i="1" lang="el-GR" sz="32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π</a:t>
            </a:r>
            <a:r>
              <a:rPr b="0" i="1" lang="en-US" sz="3200" spc="-1" strike="noStrike" baseline="30000">
                <a:solidFill>
                  <a:srgbClr val="292929"/>
                </a:solidFill>
                <a:latin typeface="Times New Roman"/>
                <a:ea typeface="Times New Roman"/>
              </a:rPr>
              <a:t>e</a:t>
            </a:r>
            <a:r>
              <a:rPr b="0" i="1" lang="ru-RU" sz="32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, </a:t>
            </a:r>
            <a:r>
              <a:rPr b="0" lang="ru-RU" sz="32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следовательно </a:t>
            </a: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Times New Roman"/>
              </a:rPr>
              <a:t>Действия политика приводят к увеличению инфляции, не воздействуя на выпуск </a:t>
            </a: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7740720" y="5300640"/>
                <a:ext cx="1052280" cy="5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Модель Кидлэнда-Прескотт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79280" y="3141360"/>
            <a:ext cx="84312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Times New Roman"/>
              </a:rPr>
              <a:t>Действия политика приводят к увеличению инфляции, не воздействуя на выпуск</a:t>
            </a: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684360" y="1557360"/>
                <a:ext cx="4225680" cy="108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π</m:t>
                        </m:r>
                      </m:e>
                      <m:sup>
                        <m:r>
                          <m:t xml:space="preserve">e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π</m:t>
                    </m:r>
                    <m:r>
                      <m:t xml:space="preserve">∗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−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684360" y="2637000"/>
                <a:ext cx="1052280" cy="52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684360" y="5746680"/>
                <a:ext cx="7948440" cy="111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42</m:t>
                    </m:r>
                    <m:r>
                      <m:t xml:space="preserve">)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L</m:t>
                        </m:r>
                      </m:e>
                      <m:sup>
                        <m:r>
                          <m:t xml:space="preserve">D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f>
                      <m:num>
                        <m:r>
                          <m:t xml:space="preserve">a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684360" y="4508640"/>
                <a:ext cx="6010200" cy="104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L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−</m:t>
                    </m:r>
                    <m:r>
                      <m:t xml:space="preserve">y</m:t>
                    </m:r>
                    <m:r>
                      <m:t xml:space="preserve">∗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a</m:t>
                    </m:r>
                    <m:r>
                      <m:t xml:space="preserve">(</m:t>
                    </m:r>
                    <m:r>
                      <m:t xml:space="preserve">π</m:t>
                    </m:r>
                    <m:r>
                      <m:t xml:space="preserve">−</m:t>
                    </m:r>
                    <m:r>
                      <m:t xml:space="preserve">π</m:t>
                    </m:r>
                    <m:r>
                      <m:t xml:space="preserve">∗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Модель Кидлэнда-Прескотт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79280" y="1773000"/>
            <a:ext cx="885672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Times New Roman"/>
              </a:rPr>
              <a:t>Если политик объявляет, что инфляции будет равна </a:t>
            </a:r>
            <a:r>
              <a:rPr b="0" i="1" lang="el-GR" sz="32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π</a:t>
            </a:r>
            <a:r>
              <a:rPr b="0" i="1" lang="ru-RU" sz="32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*</a:t>
            </a:r>
            <a:r>
              <a:rPr b="0" lang="ru-RU" sz="3200" spc="-1" strike="noStrike">
                <a:solidFill>
                  <a:srgbClr val="292929"/>
                </a:solidFill>
                <a:latin typeface="Times New Roman"/>
              </a:rPr>
              <a:t>, и в соответствии с этим общество формирует свои ожидания, он откажется от проведения обещанной политики, как только сформируются ожидания</a:t>
            </a: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Times New Roman"/>
              </a:rPr>
              <a:t>Т.к. общество осознает, что политик будет поступать именно так, оно будет ожидать инфляцию на уровне, большем чем </a:t>
            </a:r>
            <a:r>
              <a:rPr b="0" i="1" lang="el-GR" sz="32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π</a:t>
            </a:r>
            <a:r>
              <a:rPr b="0" i="1" lang="ru-RU" sz="32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*</a:t>
            </a: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Times New Roman"/>
              </a:rPr>
              <a:t>Это ухудшает набор альтернатив, находящихся в распоряжении политика </a:t>
            </a: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Модель Кидлэнда-Прескотт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08000" y="1628640"/>
            <a:ext cx="892800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Times New Roman"/>
              </a:rPr>
              <a:t>Источником проблемы является понимание обществом свободы действий, которой располагает политик, а не сама эта свобода</a:t>
            </a: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Times New Roman"/>
              </a:rPr>
              <a:t>Предположим, что общество полагает, что политик связан обязательствами, хотя на самом деле он имеет свободу действий</a:t>
            </a: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Times New Roman"/>
              </a:rPr>
              <a:t>До тех пор, пока общество не осознает, что политик не выполняет обязательств, политик может увеличить благосостояние общества</a:t>
            </a: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Лекция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826920" y="3573360"/>
            <a:ext cx="7777440" cy="19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Times New Roman"/>
              </a:rPr>
              <a:t>Динамическая несостоятельность макроэкономической политики</a:t>
            </a: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Модель Кидлэнда-Прескотт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0" y="2781000"/>
            <a:ext cx="91440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Times New Roman"/>
              </a:rPr>
              <a:t>Если политик сформирует инфляционные ожидания</a:t>
            </a: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7" name=""/>
              <p:cNvSpPr txBox="1"/>
              <p:nvPr/>
            </p:nvSpPr>
            <p:spPr>
              <a:xfrm>
                <a:off x="17640" y="1628640"/>
                <a:ext cx="8172360" cy="108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39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L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[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(</m:t>
                    </m:r>
                    <m:r>
                      <m:t xml:space="preserve">π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π</m:t>
                        </m:r>
                      </m:e>
                      <m:sup>
                        <m:r>
                          <m:t xml:space="preserve">e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y</m:t>
                    </m:r>
                    <m:r>
                      <m:t xml:space="preserve">∗</m:t>
                    </m:r>
                    <m:sSup>
                      <m:e>
                        <m:r>
                          <m:t xml:space="preserve">]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a</m:t>
                    </m:r>
                    <m:r>
                      <m:t xml:space="preserve">(</m:t>
                    </m:r>
                    <m:r>
                      <m:t xml:space="preserve">π</m:t>
                    </m:r>
                    <m:r>
                      <m:t xml:space="preserve">−</m:t>
                    </m:r>
                    <m:r>
                      <m:t xml:space="preserve">π</m:t>
                    </m:r>
                    <m:r>
                      <m:t xml:space="preserve">∗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0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0" y="4005360"/>
                <a:ext cx="448308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43</m:t>
                    </m:r>
                    <m:r>
                      <m:t xml:space="preserve">)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π</m:t>
                        </m:r>
                      </m:e>
                      <m:sup>
                        <m:r>
                          <m:t xml:space="preserve">e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π</m:t>
                        </m:r>
                      </m:e>
                      <m:sup/>
                    </m:sSup>
                    <m:r>
                      <m:t xml:space="preserve">−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y</m:t>
                        </m:r>
                      </m:e>
                      <m:sup/>
                    </m:sSup>
                    <m:r>
                      <m:t xml:space="preserve">−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f>
                      <m:fPr>
                        <m:type m:val="lin"/>
                      </m:fPr>
                      <m:num>
                        <m:r>
                          <m:t xml:space="preserve">)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0" y="6093000"/>
                <a:ext cx="236052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44</m:t>
                    </m:r>
                    <m:r>
                      <m:t xml:space="preserve">)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L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FB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1" name=""/>
          <p:cNvSpPr/>
          <p:nvPr/>
        </p:nvSpPr>
        <p:spPr>
          <a:xfrm>
            <a:off x="468360" y="4797360"/>
            <a:ext cx="835164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Times New Roman"/>
              </a:rPr>
              <a:t>а затем установит инфляцию </a:t>
            </a:r>
            <a:r>
              <a:rPr b="0" i="1" lang="el-GR" sz="32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π</a:t>
            </a:r>
            <a:r>
              <a:rPr b="0" lang="ru-RU" sz="32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 = </a:t>
            </a:r>
            <a:r>
              <a:rPr b="0" i="1" lang="el-GR" sz="32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π</a:t>
            </a:r>
            <a:r>
              <a:rPr b="0" i="1" lang="ru-RU" sz="32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*,</a:t>
            </a:r>
            <a:r>
              <a:rPr b="0" lang="ru-RU" sz="3200" spc="-1" strike="noStrike">
                <a:solidFill>
                  <a:srgbClr val="292929"/>
                </a:solidFill>
                <a:latin typeface="Times New Roman"/>
              </a:rPr>
              <a:t> то он сможет достичь оптимума (</a:t>
            </a:r>
            <a:r>
              <a:rPr b="0" i="1" lang="en-US" sz="3200" spc="-1" strike="noStrike">
                <a:solidFill>
                  <a:srgbClr val="cc9900"/>
                </a:solidFill>
                <a:latin typeface="Times New Roman"/>
              </a:rPr>
              <a:t>first best</a:t>
            </a:r>
            <a:r>
              <a:rPr b="0" lang="en-US" sz="3200" spc="-1" strike="noStrike">
                <a:solidFill>
                  <a:srgbClr val="292929"/>
                </a:solidFill>
                <a:latin typeface="Times New Roman"/>
              </a:rPr>
              <a:t>)</a:t>
            </a:r>
            <a:r>
              <a:rPr b="0" lang="ru-RU" sz="3200" spc="-1" strike="noStrike">
                <a:solidFill>
                  <a:srgbClr val="292929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Модель Кидлэнда-Прескотт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0" y="1699920"/>
            <a:ext cx="9144000" cy="30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Times New Roman"/>
              </a:rPr>
              <a:t>Однако, представленная </a:t>
            </a:r>
            <a:r>
              <a:rPr b="0" i="1" lang="ru-RU" sz="3200" spc="-1" strike="noStrike">
                <a:solidFill>
                  <a:srgbClr val="cc3300"/>
                </a:solidFill>
                <a:latin typeface="Times New Roman"/>
              </a:rPr>
              <a:t>оптимальная</a:t>
            </a:r>
            <a:r>
              <a:rPr b="0" lang="ru-RU" sz="3200" spc="-1" strike="noStrike">
                <a:solidFill>
                  <a:srgbClr val="292929"/>
                </a:solidFill>
                <a:latin typeface="Times New Roman"/>
              </a:rPr>
              <a:t> политика является </a:t>
            </a:r>
            <a:r>
              <a:rPr b="0" i="1" lang="ru-RU" sz="3200" spc="-1" strike="noStrike">
                <a:solidFill>
                  <a:srgbClr val="cc3300"/>
                </a:solidFill>
                <a:latin typeface="Times New Roman"/>
              </a:rPr>
              <a:t>динамически несостоятельной</a:t>
            </a: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Times New Roman"/>
              </a:rPr>
              <a:t>Как только общество подстраивает свои ожидания под действия политика, </a:t>
            </a:r>
            <a:r>
              <a:rPr b="0" i="1" lang="el-GR" sz="32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π</a:t>
            </a:r>
            <a:r>
              <a:rPr b="0" i="1" lang="en-US" sz="3200" spc="-1" strike="noStrike" baseline="30000">
                <a:solidFill>
                  <a:srgbClr val="292929"/>
                </a:solidFill>
                <a:latin typeface="Times New Roman"/>
                <a:ea typeface="Times New Roman"/>
              </a:rPr>
              <a:t>e</a:t>
            </a:r>
            <a:r>
              <a:rPr b="0" lang="ru-RU" sz="32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 = </a:t>
            </a:r>
            <a:r>
              <a:rPr b="0" i="1" lang="el-GR" sz="32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π</a:t>
            </a:r>
            <a:r>
              <a:rPr b="0" lang="ru-RU" sz="32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 = </a:t>
            </a:r>
            <a:r>
              <a:rPr b="0" i="1" lang="el-GR" sz="32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π</a:t>
            </a:r>
            <a:r>
              <a:rPr b="0" i="1" lang="ru-RU" sz="32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*</a:t>
            </a:r>
            <a:r>
              <a:rPr b="0" lang="ru-RU" sz="32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, данная политика становиться </a:t>
            </a:r>
            <a:r>
              <a:rPr b="0" i="1" lang="ru-RU" sz="32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субоптимальной </a:t>
            </a:r>
            <a:r>
              <a:rPr b="0" lang="ru-RU" sz="32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(</a:t>
            </a:r>
            <a:r>
              <a:rPr b="0" i="1" lang="en-US" sz="3200" spc="-1" strike="noStrike">
                <a:solidFill>
                  <a:srgbClr val="cc9900"/>
                </a:solidFill>
                <a:latin typeface="Times New Roman"/>
                <a:ea typeface="Times New Roman"/>
              </a:rPr>
              <a:t>second best</a:t>
            </a:r>
            <a:r>
              <a:rPr b="0" lang="en-US" sz="32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)</a:t>
            </a:r>
            <a:r>
              <a:rPr b="0" lang="ru-RU" sz="32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4" name=""/>
              <p:cNvSpPr txBox="1"/>
              <p:nvPr/>
            </p:nvSpPr>
            <p:spPr>
              <a:xfrm>
                <a:off x="0" y="4724280"/>
                <a:ext cx="8172360" cy="108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39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L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[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(</m:t>
                    </m:r>
                    <m:r>
                      <m:t xml:space="preserve">π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π</m:t>
                        </m:r>
                      </m:e>
                      <m:sup>
                        <m:r>
                          <m:t xml:space="preserve">e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y</m:t>
                    </m:r>
                    <m:r>
                      <m:t xml:space="preserve">∗</m:t>
                    </m:r>
                    <m:sSup>
                      <m:e>
                        <m:r>
                          <m:t xml:space="preserve">]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a</m:t>
                    </m:r>
                    <m:r>
                      <m:t xml:space="preserve">(</m:t>
                    </m:r>
                    <m:r>
                      <m:t xml:space="preserve">π</m:t>
                    </m:r>
                    <m:r>
                      <m:t xml:space="preserve">−</m:t>
                    </m:r>
                    <m:r>
                      <m:t xml:space="preserve">π</m:t>
                    </m:r>
                    <m:r>
                      <m:t xml:space="preserve">∗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" name=""/>
              <p:cNvSpPr txBox="1"/>
              <p:nvPr/>
            </p:nvSpPr>
            <p:spPr>
              <a:xfrm>
                <a:off x="0" y="5813280"/>
                <a:ext cx="4721400" cy="104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t xml:space="preserve">)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L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SB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(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−</m:t>
                    </m:r>
                    <m:r>
                      <m:t xml:space="preserve">y</m:t>
                    </m:r>
                    <m:r>
                      <m:t xml:space="preserve">∗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L</m:t>
                        </m:r>
                      </m:e>
                      <m:sup>
                        <m:r>
                          <m:t xml:space="preserve">C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Динамическая несостоятельност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878544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cc3300"/>
                </a:solidFill>
                <a:latin typeface="Times New Roman"/>
              </a:rPr>
              <a:t>Оптимальная политика</a:t>
            </a:r>
            <a:r>
              <a:rPr b="0" lang="ru-RU" sz="3200" spc="-1" strike="noStrike">
                <a:solidFill>
                  <a:srgbClr val="292929"/>
                </a:solidFill>
                <a:latin typeface="Times New Roman"/>
              </a:rPr>
              <a:t> – это политика, минимизирующая потери общества</a:t>
            </a: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cc3300"/>
                </a:solidFill>
                <a:latin typeface="Times New Roman"/>
              </a:rPr>
              <a:t>Динамически состоятельная политика</a:t>
            </a:r>
            <a:r>
              <a:rPr b="0" lang="ru-RU" sz="3200" spc="-1" strike="noStrike">
                <a:solidFill>
                  <a:srgbClr val="292929"/>
                </a:solidFill>
                <a:latin typeface="Times New Roman"/>
              </a:rPr>
              <a:t> - это политика, минимизирующая потери общества с учетом </a:t>
            </a:r>
            <a:r>
              <a:rPr b="0" i="1" lang="ru-RU" sz="3200" spc="-1" strike="noStrike">
                <a:solidFill>
                  <a:srgbClr val="cc3300"/>
                </a:solidFill>
                <a:latin typeface="Times New Roman"/>
              </a:rPr>
              <a:t>эффекта обратной связи</a:t>
            </a:r>
            <a:r>
              <a:rPr b="0" lang="ru-RU" sz="3200" spc="-1" strike="noStrike">
                <a:solidFill>
                  <a:srgbClr val="292929"/>
                </a:solidFill>
                <a:latin typeface="Times New Roman"/>
              </a:rPr>
              <a:t> – ожидания общества относительно проводимой политики меняют набор альтернатив, доступных политику</a:t>
            </a: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Динамическая несостоятельност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08000" y="1773000"/>
            <a:ext cx="8502480" cy="43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Times New Roman"/>
              </a:rPr>
              <a:t>Другие примеры ситуаций, где оптимальная политика государства может оказаться динамически несостоятельной:</a:t>
            </a: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Times New Roman"/>
              </a:rPr>
              <a:t>Налогообложение капитала</a:t>
            </a:r>
            <a:endParaRPr b="0" lang="en-US" sz="2800" spc="-1" strike="noStrike">
              <a:solidFill>
                <a:srgbClr val="292929"/>
              </a:solidFill>
              <a:latin typeface="Times New Roman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Times New Roman"/>
              </a:rPr>
              <a:t>Обесценение номинального государственного долга</a:t>
            </a:r>
            <a:endParaRPr b="0" lang="en-US" sz="2800" spc="-1" strike="noStrike">
              <a:solidFill>
                <a:srgbClr val="29292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32040" y="96480"/>
            <a:ext cx="73850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Решение проблемы динамической несостоятельност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0" y="1773000"/>
            <a:ext cx="91440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Times New Roman"/>
              </a:rPr>
              <a:t>Очевидное решение проблемы динамической несостоятельности – это </a:t>
            </a:r>
            <a:r>
              <a:rPr b="0" i="1" lang="en-US" sz="3200" spc="-1" strike="noStrike">
                <a:solidFill>
                  <a:srgbClr val="cc3300"/>
                </a:solidFill>
                <a:latin typeface="Times New Roman"/>
              </a:rPr>
              <a:t>политика правил </a:t>
            </a:r>
            <a:r>
              <a:rPr b="0" lang="en-US" sz="3200" spc="-1" strike="noStrike">
                <a:solidFill>
                  <a:srgbClr val="292929"/>
                </a:solidFill>
                <a:latin typeface="Times New Roman"/>
              </a:rPr>
              <a:t>(политика, следующая обязательствам)</a:t>
            </a: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Times New Roman"/>
              </a:rPr>
              <a:t>Но это должны быть </a:t>
            </a:r>
            <a:r>
              <a:rPr b="0" i="1" lang="en-US" sz="3200" spc="-1" strike="noStrike">
                <a:solidFill>
                  <a:srgbClr val="cc3300"/>
                </a:solidFill>
                <a:latin typeface="Times New Roman"/>
              </a:rPr>
              <a:t>принудительные правила</a:t>
            </a:r>
            <a:r>
              <a:rPr b="0" lang="en-US" sz="3200" spc="-1" strike="noStrike">
                <a:solidFill>
                  <a:srgbClr val="292929"/>
                </a:solidFill>
                <a:latin typeface="Times New Roman"/>
              </a:rPr>
              <a:t>, так чтобы политик вынужден был им следовать, несмотря на изменяющиеся обстоятельства</a:t>
            </a: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Times New Roman"/>
              </a:rPr>
              <a:t>Возникающие при этом проблемы:</a:t>
            </a: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Times New Roman"/>
              </a:rPr>
              <a:t>Сложно учесть все возможные обстоятельства</a:t>
            </a:r>
            <a:endParaRPr b="0" lang="en-US" sz="2800" spc="-1" strike="noStrike">
              <a:solidFill>
                <a:srgbClr val="292929"/>
              </a:solidFill>
              <a:latin typeface="Times New Roman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Times New Roman"/>
              </a:rPr>
              <a:t>Политик безнаказанно может не следовать правилам </a:t>
            </a:r>
            <a:endParaRPr b="0" lang="en-US" sz="2800" spc="-1" strike="noStrike">
              <a:solidFill>
                <a:srgbClr val="29292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Решение проблемы динамической несостоятельност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Times New Roman"/>
              </a:rPr>
              <a:t>Общие подходы к решению проблем принудительных правил</a:t>
            </a: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Times New Roman"/>
              </a:rPr>
              <a:t>Репутация</a:t>
            </a:r>
            <a:endParaRPr b="0" lang="en-US" sz="2800" spc="-1" strike="noStrike">
              <a:solidFill>
                <a:srgbClr val="292929"/>
              </a:solidFill>
              <a:latin typeface="Times New Roman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Times New Roman"/>
              </a:rPr>
              <a:t>Делегирование</a:t>
            </a:r>
            <a:endParaRPr b="0" lang="en-US" sz="2800" spc="-1" strike="noStrike">
              <a:solidFill>
                <a:srgbClr val="292929"/>
              </a:solidFill>
              <a:latin typeface="Times New Roman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Times New Roman"/>
              </a:rPr>
              <a:t>Стимулирующие контракты</a:t>
            </a:r>
            <a:endParaRPr b="0" lang="en-US" sz="2800" spc="-1" strike="noStrike">
              <a:solidFill>
                <a:srgbClr val="29292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Роль репутации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неформальный анализ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0" y="1699920"/>
            <a:ext cx="91440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Times New Roman"/>
              </a:rPr>
              <a:t>Репутация может использоваться для решения проблемы динамической несостоятельности, если политики занимают свою должность более одного периода, и общество не имеет о них точной информации</a:t>
            </a: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Times New Roman"/>
              </a:rPr>
              <a:t>Например, общество может не знать предпочтений политиков в отношении инфляции и выпуска или их мнение по поводу выбора между инфляцией и безработицей, а также являются ли их заявления о будущей политике обязательными для выполнения </a:t>
            </a: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Роль репутации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неформальный анализ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0" y="1699920"/>
            <a:ext cx="91440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Times New Roman"/>
              </a:rPr>
              <a:t>В таких ситуациях поведение политиков дает информацию об их характеристиках, и, следовательно, влияет на ожидания общества в отношении инфляции в последующие периоды</a:t>
            </a: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Times New Roman"/>
              </a:rPr>
              <a:t>Т.к. политики имеют более благоприятный набор альтернатив при выборе между инфляцией и безработицей, когда инфляция ниже, это дает им стимул следовать низкоинфляционной политике</a:t>
            </a: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Роль репутации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неформальный анализ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0" y="1699920"/>
            <a:ext cx="91440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Times New Roman"/>
              </a:rPr>
              <a:t>Общество не знает, какой политике будет следовать правительство в будущие периоды</a:t>
            </a: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Times New Roman"/>
              </a:rPr>
              <a:t>При правдоподобных предположениях, чем ниже инфляция, наблюдаемая сегодня, тем ниже ожидаемая в будущем инфляция</a:t>
            </a: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Times New Roman"/>
              </a:rPr>
              <a:t>Это дает политикам стимул поддерживать инфляцию на низком уровне</a:t>
            </a: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Times New Roman"/>
              </a:rPr>
              <a:t>Таким образом, неопределенность в отношении характеристик политиков снижает инфляцию</a:t>
            </a: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Роль репутации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неформальный анализ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0" y="1699920"/>
            <a:ext cx="91440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Times New Roman"/>
              </a:rPr>
              <a:t>Влияние заботы о репутации на инфляцию тем больше, чем больший вес придают политики будущим периодам </a:t>
            </a: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Times New Roman"/>
              </a:rPr>
              <a:t>Влияние заботы о репутации значительнее, когда существует большее количество периодов</a:t>
            </a: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Times New Roman"/>
              </a:rPr>
              <a:t>Влияние на инфляцию сильнее, когда существует большая неопределенность в отношении характеристик политиков  </a:t>
            </a: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В чем причина инфляции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8000" y="1773360"/>
            <a:ext cx="88567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Times New Roman"/>
              </a:rPr>
              <a:t>Для большинства развитых стран, где доход правительства от увеличения денежной базы не имеет большого значения, наиболее вероятной причиной роста предложения денег является существование осознанного выбора между инфляцией и безработицей</a:t>
            </a: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Роль репутации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неформальный анализ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0" y="1699920"/>
            <a:ext cx="8964720" cy="50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Times New Roman"/>
              </a:rPr>
              <a:t>На практике, центральные банки выглядят весьма обеспокоенными по поводу завоевания репутации организации надежной и негативно относящейся к инфляции</a:t>
            </a: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Times New Roman"/>
              </a:rPr>
              <a:t>Если бы общество было уверено в отношении предпочтений, не было бы причин для существования данного явления</a:t>
            </a: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Times New Roman"/>
              </a:rPr>
              <a:t>Только если общество не имеет полной информации, и ожидания имеют значение, подобная забота может иметь место </a:t>
            </a: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Формальный анализ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модели репутаци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0" y="1773360"/>
            <a:ext cx="896472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Times New Roman"/>
              </a:rPr>
              <a:t>Формальный анализ модели репутации выносится на семинар (по материалам учебника Ромера)</a:t>
            </a: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Times New Roman"/>
              </a:rPr>
              <a:t>Студент (студенты), сделавший доклад у доски (с формальным изложением модели репутации) получит +20 баллов (из 100) к оценке за контрольную работу</a:t>
            </a: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Делегировани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914400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Times New Roman"/>
              </a:rPr>
              <a:t>Можно решить проблему динамической несостоятельности низкоинфляционной монетарной политики, делегировав полномочия по проведению политики индивидам, которые не разделяют взгляды общества по поводу сравнительной значимости выпуска и инфляции</a:t>
            </a: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Times New Roman"/>
              </a:rPr>
              <a:t>Фактическая и ожидаемая инфляция ниже, когда монетарная политика контролируется кем-то, о ком известно, что он особенно нерасположен к инфляции (</a:t>
            </a:r>
            <a:r>
              <a:rPr b="0" i="1" lang="en-US" sz="3200" spc="-1" strike="noStrike">
                <a:solidFill>
                  <a:srgbClr val="cc3300"/>
                </a:solidFill>
                <a:latin typeface="Times New Roman"/>
              </a:rPr>
              <a:t>консервативный центральный банк</a:t>
            </a:r>
            <a:r>
              <a:rPr b="0" lang="en-US" sz="3200" spc="-1" strike="noStrike">
                <a:solidFill>
                  <a:srgbClr val="292929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Делегировани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0" y="1699920"/>
            <a:ext cx="84312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Times New Roman"/>
              </a:rPr>
              <a:t>Целевая функция общества:</a:t>
            </a: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0" y="2349360"/>
                <a:ext cx="8829720" cy="104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L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−</m:t>
                    </m:r>
                    <m:r>
                      <m:t xml:space="preserve">y</m:t>
                    </m:r>
                    <m:r>
                      <m:t xml:space="preserve">∗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a</m:t>
                    </m:r>
                    <m:r>
                      <m:t xml:space="preserve">(</m:t>
                    </m:r>
                    <m:r>
                      <m:t xml:space="preserve">π</m:t>
                    </m:r>
                    <m:r>
                      <m:t xml:space="preserve">−</m:t>
                    </m:r>
                    <m:r>
                      <m:t xml:space="preserve">π</m:t>
                    </m:r>
                    <m:r>
                      <m:t xml:space="preserve">∗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∗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1" name=""/>
          <p:cNvSpPr/>
          <p:nvPr/>
        </p:nvSpPr>
        <p:spPr>
          <a:xfrm>
            <a:off x="0" y="3643200"/>
            <a:ext cx="89647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Times New Roman"/>
              </a:rPr>
              <a:t>Целевая функция консервативного политика:</a:t>
            </a: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2" name=""/>
              <p:cNvSpPr txBox="1"/>
              <p:nvPr/>
            </p:nvSpPr>
            <p:spPr>
              <a:xfrm>
                <a:off x="0" y="4508640"/>
                <a:ext cx="9136080" cy="104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46</m:t>
                    </m:r>
                    <m:r>
                      <m:t xml:space="preserve">)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L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−</m:t>
                    </m:r>
                    <m:r>
                      <m:t xml:space="preserve">y</m:t>
                    </m:r>
                    <m:r>
                      <m:t xml:space="preserve">∗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π</m:t>
                    </m:r>
                    <m:r>
                      <m:t xml:space="preserve">−</m:t>
                    </m:r>
                    <m:r>
                      <m:t xml:space="preserve">π</m:t>
                    </m:r>
                    <m:r>
                      <m:t xml:space="preserve">∗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∗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,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&gt;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Делегировани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914400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Times New Roman"/>
              </a:rPr>
              <a:t>Даже если консервативный политик не следует политике правил, в равновесии инфляция ниже:</a:t>
            </a: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5" name=""/>
              <p:cNvSpPr txBox="1"/>
              <p:nvPr/>
            </p:nvSpPr>
            <p:spPr>
              <a:xfrm>
                <a:off x="395280" y="2852640"/>
                <a:ext cx="5657760" cy="108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41</m:t>
                    </m:r>
                    <m:r>
                      <m:t xml:space="preserve">)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π</m:t>
                        </m:r>
                      </m:e>
                      <m:sup>
                        <m:r>
                          <m:t xml:space="preserve">e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π</m:t>
                    </m:r>
                    <m:r>
                      <m:t xml:space="preserve">∗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−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)</m:t>
                    </m:r>
                    <m:r>
                      <m:t xml:space="preserve">≡</m:t>
                    </m:r>
                    <m:sSup>
                      <m:e>
                        <m:r>
                          <m:t xml:space="preserve">π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EQ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6" name=""/>
              <p:cNvSpPr txBox="1"/>
              <p:nvPr/>
            </p:nvSpPr>
            <p:spPr>
              <a:xfrm>
                <a:off x="395280" y="4076640"/>
                <a:ext cx="5867280" cy="108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47</m:t>
                    </m:r>
                    <m:r>
                      <m:t xml:space="preserve">)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π</m:t>
                        </m:r>
                      </m:e>
                      <m:sup>
                        <m:r>
                          <m:t xml:space="preserve">e</m:t>
                        </m:r>
                        <m:r>
                          <m:t xml:space="preserve">'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π</m:t>
                    </m:r>
                    <m:r>
                      <m:t xml:space="preserve">∗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a</m:t>
                        </m:r>
                        <m:r>
                          <m:t xml:space="preserve">'</m:t>
                        </m:r>
                      </m:den>
                    </m:f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−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)</m:t>
                    </m:r>
                    <m:r>
                      <m:t xml:space="preserve">≡</m:t>
                    </m:r>
                    <m:sSup>
                      <m:e>
                        <m:r>
                          <m:t xml:space="preserve">π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EQ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47" name=""/>
          <p:cNvSpPr/>
          <p:nvPr/>
        </p:nvSpPr>
        <p:spPr>
          <a:xfrm>
            <a:off x="0" y="5202360"/>
            <a:ext cx="914400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Times New Roman"/>
              </a:rPr>
              <a:t>Чем выше </a:t>
            </a:r>
            <a:r>
              <a:rPr b="0" i="1" lang="en-US" sz="3200" spc="-1" strike="noStrike">
                <a:solidFill>
                  <a:srgbClr val="292929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292929"/>
                </a:solidFill>
                <a:latin typeface="Times New Roman"/>
              </a:rPr>
              <a:t>’</a:t>
            </a:r>
            <a:r>
              <a:rPr b="0" lang="ru-RU" sz="3200" spc="-1" strike="noStrike">
                <a:solidFill>
                  <a:srgbClr val="292929"/>
                </a:solidFill>
                <a:latin typeface="Times New Roman"/>
              </a:rPr>
              <a:t>, тем ниже инфляция (ниже потери общества от инфляции)</a:t>
            </a: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1187280" y="0"/>
            <a:ext cx="7016760" cy="668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Делегировани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0" y="1700280"/>
            <a:ext cx="896472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Times New Roman"/>
              </a:rPr>
              <a:t>Когда монетарная политика контролируется кем-то, кто сильно обеспокоен инфляцией, общество понимает, что у политика нет желания проводить экспансионистскую политику; в результате ожидаемая инфляция находится на низком уровне </a:t>
            </a: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Times New Roman"/>
              </a:rPr>
              <a:t>Во многих странах монетарная политика определяется независимыми центральными банками, а не правительством </a:t>
            </a: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Делегировани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0" y="1699920"/>
            <a:ext cx="91440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Times New Roman"/>
              </a:rPr>
              <a:t>Правительство часто подбирает индивидов, о которых известно, кто они особенно нерасположены к инфляции, для управления центральным банком</a:t>
            </a: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Times New Roman"/>
              </a:rPr>
              <a:t>В результате о тех, кто контролируют монетарную политику, известно, что они в большей степени обеспокоены инфляцией, чем общество в целом, и очень редко среди них встречаются те, кто заботиться об инфляции в меньшей степени </a:t>
            </a: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Делегировани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0" y="1773360"/>
            <a:ext cx="914400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Times New Roman"/>
              </a:rPr>
              <a:t>Анализ может быть распространен на случай, когда экономика подвержена воздействию шоков</a:t>
            </a: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Times New Roman"/>
              </a:rPr>
              <a:t>При разумных предположениях, политик, чьи предпочтения в отношении выпуска и инфляции отличаются от предпочтений общества, не реагирует на шоки оптимально</a:t>
            </a: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Делегировани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0" y="1773360"/>
            <a:ext cx="914400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Times New Roman"/>
              </a:rPr>
              <a:t>Таким образом, при выборе того, кому делегировать полномочия по проведению монетарной политики, существует альтернатива: выбор кого-то, кто нерасположен к инфляции, приводит к лучшим результатам в отношении средней инфляции, но к худшим результатам в отношении реакции на шоки</a:t>
            </a: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Times New Roman"/>
              </a:rPr>
              <a:t>В результате, существует некий оптимальный уровень «консерватизма» для центральных банков</a:t>
            </a: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В чем причина инфляции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8000" y="1773360"/>
            <a:ext cx="88567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Times New Roman"/>
              </a:rPr>
              <a:t>Если политики  считают, что изменения агрегированного спроса влияют на реальный выпуск, то они могут увеличить предложение денег, чтобы попытаться поднять выпуск выше его естественного уровня</a:t>
            </a: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Times New Roman"/>
              </a:rPr>
              <a:t>Или, если они сталкиваются с уровнем инфляции, который кажется им слишком высоким, они могут быть не готовы вызвать рецессию, чтобы уменьшить инфляцию </a:t>
            </a: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Независимость центрального банка и инфляци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0" y="1699920"/>
            <a:ext cx="91440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Times New Roman"/>
              </a:rPr>
              <a:t>Чем больше независимость центрального банка, тем больше способность правительства делегировать полномочия по проведению политики индивидам, которые особенно нерасположены к инфляции</a:t>
            </a:r>
            <a:endParaRPr b="0" lang="en-US" sz="2800" spc="-1" strike="noStrike">
              <a:solidFill>
                <a:srgbClr val="292929"/>
              </a:solidFill>
              <a:latin typeface="Times New Roman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Times New Roman"/>
              </a:rPr>
              <a:t>Эмпирически независимость центрального банка измеряется качественными индексами, при расчете которых учитываются такие факторы, как способ назначения и  освобождения от должности руководителя и членом правления банка, наличие представителей государства в правлении и способность правительства налагать вето на решения банка или контролировать их напрямую </a:t>
            </a:r>
            <a:endParaRPr b="0" lang="en-US" sz="2800" spc="-1" strike="noStrike">
              <a:solidFill>
                <a:srgbClr val="29292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Независимость центрального банка и инфляци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08000" y="1773000"/>
            <a:ext cx="8928000" cy="43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Times New Roman"/>
              </a:rPr>
              <a:t>Исследования взаимосвязи между этими измерениями независимости банка и инфляцией выявили, что в промышленно развитых странах независимость банка и инфляция связаны сильной обратной зависимостью </a:t>
            </a: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0" y="44280"/>
            <a:ext cx="9144000" cy="654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Независимость центрального банка и инфляци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0" y="1699920"/>
            <a:ext cx="896472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Times New Roman"/>
              </a:rPr>
              <a:t>Проблемы, связанные с данными оценками:</a:t>
            </a:r>
            <a:endParaRPr b="0" lang="en-US" sz="2800" spc="-1" strike="noStrike">
              <a:solidFill>
                <a:srgbClr val="292929"/>
              </a:solidFill>
              <a:latin typeface="Times New Roman"/>
            </a:endParaRPr>
          </a:p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Times New Roman"/>
              </a:rPr>
              <a:t>Возможность систематических изменений предпочтений политиков при изменении степени независимости центрального банка </a:t>
            </a:r>
            <a:endParaRPr b="0" lang="en-US" sz="2800" spc="-1" strike="noStrike">
              <a:solidFill>
                <a:srgbClr val="292929"/>
              </a:solidFill>
              <a:latin typeface="Times New Roman"/>
            </a:endParaRPr>
          </a:p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Times New Roman"/>
              </a:rPr>
              <a:t>Низкая инфляция может быть обусловлена не независимостью центрального банка, а другими факторами</a:t>
            </a:r>
            <a:endParaRPr b="0" lang="en-US" sz="2800" spc="-1" strike="noStrike">
              <a:solidFill>
                <a:srgbClr val="292929"/>
              </a:solidFill>
              <a:latin typeface="Times New Roman"/>
            </a:endParaRPr>
          </a:p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Times New Roman"/>
              </a:rPr>
              <a:t>Не существует однозначной взаимосвязи между легальными мерами независимости центрального банка и средней инфляцией среди развивающихся стран </a:t>
            </a:r>
            <a:endParaRPr b="0" lang="en-US" sz="2800" spc="-1" strike="noStrike">
              <a:solidFill>
                <a:srgbClr val="29292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Границы теорий динамической несостоятельности инфляци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0" y="1699920"/>
            <a:ext cx="91440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Times New Roman"/>
              </a:rPr>
              <a:t>Не до конца определена значимость впередсмотрящих ожиданий изменений совокупного предложения, а это является центральным моментом в объяснении инфляции через динамическую несостоятельность </a:t>
            </a: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Times New Roman"/>
              </a:rPr>
              <a:t>Теории динамической несостоятельности сталкиваются с трудностями при учете временных различий в инфляции </a:t>
            </a: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Задание для самостоятельной работ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0" y="1773360"/>
            <a:ext cx="914400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Times New Roman"/>
              </a:rPr>
              <a:t>Бурда-Виплош, 16</a:t>
            </a: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Times New Roman"/>
              </a:rPr>
              <a:t>Ромер, 10.4-10.5 (материал лекции)</a:t>
            </a: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Times New Roman"/>
              </a:rPr>
              <a:t>Ромер, 10.8-10.9 (самостоятельная работа)</a:t>
            </a: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Times New Roman"/>
              </a:rPr>
              <a:t>Ромер, 11.5-11.7, 11.9-11.10 (к следующей лекции)</a:t>
            </a: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Times New Roman"/>
              </a:rPr>
              <a:t>Подготовиться к тесту (теория + российская статистика государственному бюджету)</a:t>
            </a: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www.cbr.ru</a:t>
            </a: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9933"/>
                </a:solidFill>
                <a:uFillTx/>
                <a:latin typeface="Times New Roman"/>
                <a:hlinkClick r:id="rId2"/>
              </a:rPr>
              <a:t>www.eeg.ru</a:t>
            </a: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  <a:p>
            <a:pPr marL="4431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  <a:p>
            <a:pPr marL="4431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2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2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2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2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В чем причина инфляции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0" y="1773360"/>
            <a:ext cx="914400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29"/>
                </a:solidFill>
                <a:latin typeface="Times New Roman"/>
              </a:rPr>
              <a:t>Любая теория, пытающаяся объяснить, как существование выбора между инфляцией и безработицей может привести к инфляции, должна учитывать тот факт, что такого выбора не существует в долгосрочной перспективе</a:t>
            </a:r>
            <a:endParaRPr b="0" lang="en-US" sz="2800" spc="-1" strike="noStrike">
              <a:solidFill>
                <a:srgbClr val="292929"/>
              </a:solidFill>
              <a:latin typeface="Times New Roman"/>
            </a:endParaRPr>
          </a:p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29"/>
                </a:solidFill>
                <a:latin typeface="Times New Roman"/>
              </a:rPr>
              <a:t>В своей знаменитой работе </a:t>
            </a:r>
            <a:r>
              <a:rPr b="0" lang="en-US" sz="2800" spc="-1" strike="noStrike">
                <a:solidFill>
                  <a:srgbClr val="292929"/>
                </a:solidFill>
                <a:latin typeface="Times New Roman"/>
              </a:rPr>
              <a:t>Kydland</a:t>
            </a:r>
            <a:r>
              <a:rPr b="0" lang="ru-RU" sz="2800" spc="-1" strike="noStrike">
                <a:solidFill>
                  <a:srgbClr val="292929"/>
                </a:solidFill>
                <a:latin typeface="Times New Roman"/>
              </a:rPr>
              <a:t>-</a:t>
            </a:r>
            <a:r>
              <a:rPr b="0" lang="en-US" sz="2800" spc="-1" strike="noStrike">
                <a:solidFill>
                  <a:srgbClr val="292929"/>
                </a:solidFill>
                <a:latin typeface="Times New Roman"/>
              </a:rPr>
              <a:t>Prescott</a:t>
            </a:r>
            <a:r>
              <a:rPr b="0" lang="ru-RU" sz="2800" spc="-1" strike="noStrike">
                <a:solidFill>
                  <a:srgbClr val="292929"/>
                </a:solidFill>
                <a:latin typeface="Times New Roman"/>
              </a:rPr>
              <a:t> (1977) показывают, что неспособность политиков придерживаться низкоинфляционной политики может привести к завышенному уровню инфляции, несмотря на отсутствие выбора между инфляцией и безработицей в долгосрочной перспективе </a:t>
            </a:r>
            <a:endParaRPr b="0" lang="en-US" sz="2800" spc="-1" strike="noStrike">
              <a:solidFill>
                <a:srgbClr val="29292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ydland, F.E., Prescott, E.C. (1977) “Rules Rather Than Discretion: The Inconsistency of Optimal Plans”.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Journal of Political Econom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7, pp. 473-49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lvo G. A. (1978) "On the Time Consistency of Optimal Policy in a Monetary Economy".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conometric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46(6), pp. 1411-1428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ydland, F.E., Prescott, E.C. (1980) "Dynamic Optimal Taxation, Rational Expectations and Optimal Control".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Journal of Economic Dynamics and Contro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2, pp.79-91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ckus, D., J. Driffill (1985) “Inflation and Reputation”.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merican Economic Review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75, pp. 530-538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rro R. J. (1986) "Reputation in a Model of Monetary Policy with Incomplete Information".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Journal of Monetary Economic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17, pp. 3-2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rro R. J., Gordon D. B. (1983a) "Rules, Discretion and Reputation in a Model of Monetary Policy".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Journal of Monetary Economic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12, pp. 101-12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rro R. J., Gordon D. B. (1983b) "A Positive Theory of Monetary Policy in a Natural Rate Model".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Journal of Political Econom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91(4), pp. 589-610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goff, K. (1985) “The Optimal Degree of Commitment to an Intermediate Monetary Target”.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Quarterly Journal o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conomic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14, pp. 199-217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alsh C. E. (1995) "Optimal Contracts for Central Bankers".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he American Economic Review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85(1), pp. 150-167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kwood B. (1997) "State-Contingent Inflation Contracts and Unemployment Persistence".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Journal of Money, Credit, and Bankin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29(3), pp. 286-299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razen, A. (2000)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olitical Economy in Macroeconomic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Princeton University Press: Princeton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sson, T., Tabellini, G. (2000)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olitical Economy in Macroeconomic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The MIT Press: Cambridge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32040" y="96480"/>
            <a:ext cx="724032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Модель Кидлэнда-Прескотт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8000" y="1699920"/>
            <a:ext cx="90360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Times New Roman"/>
              </a:rPr>
              <a:t>Агрегированное предложение задано функцией предложения Лукаса: </a:t>
            </a: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31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611280" y="2997360"/>
                <a:ext cx="5398920" cy="63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35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y</m:t>
                    </m:r>
                    <m:r>
                      <m:t xml:space="preserve">=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(</m:t>
                    </m:r>
                    <m:r>
                      <m:t xml:space="preserve">π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π</m:t>
                        </m:r>
                      </m:e>
                      <m:sup>
                        <m:r>
                          <m:t xml:space="preserve">e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b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1" name=""/>
          <p:cNvSpPr/>
          <p:nvPr/>
        </p:nvSpPr>
        <p:spPr>
          <a:xfrm>
            <a:off x="108000" y="3645000"/>
            <a:ext cx="88200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407520" indent="-40752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92929"/>
                </a:solidFill>
                <a:latin typeface="Times New Roman"/>
              </a:rPr>
              <a:t>y</a:t>
            </a:r>
            <a:r>
              <a:rPr b="0" lang="ru-RU" sz="3200" spc="-1" strike="noStrike">
                <a:solidFill>
                  <a:srgbClr val="292929"/>
                </a:solidFill>
                <a:latin typeface="Times New Roman"/>
              </a:rPr>
              <a:t> - логарифм выпуска,</a:t>
            </a: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  <a:p>
            <a:pPr marL="407520" indent="-40752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292929"/>
                </a:solidFill>
                <a:latin typeface="Times New Roman"/>
              </a:rPr>
              <a:t>- логарифм естественного уровня выпуска </a:t>
            </a: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539640" y="4292640"/>
                <a:ext cx="384120" cy="5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</p:spTree>
  </p:cSld>
  <p:transition>
    <p:fade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0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32040" y="96480"/>
            <a:ext cx="724032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Модель Кидлэнда-Прескотт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08000" y="1699920"/>
            <a:ext cx="90360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8000"/>
          </a:bodyPr>
          <a:p>
            <a:pPr marL="304200" indent="-3042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Times New Roman"/>
              </a:rPr>
              <a:t>Предполагается, что целевая функция политика совпадает с функцией общественных потерь (т.е. политик является </a:t>
            </a:r>
            <a:r>
              <a:rPr b="0" i="1" lang="ru-RU" sz="3200" spc="-1" strike="noStrike">
                <a:solidFill>
                  <a:srgbClr val="292929"/>
                </a:solidFill>
                <a:latin typeface="Times New Roman"/>
              </a:rPr>
              <a:t>беневолентным</a:t>
            </a:r>
            <a:r>
              <a:rPr b="0" lang="ru-RU" sz="3200" spc="-1" strike="noStrike">
                <a:solidFill>
                  <a:srgbClr val="292929"/>
                </a:solidFill>
                <a:latin typeface="Times New Roman"/>
              </a:rPr>
              <a:t>): </a:t>
            </a: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31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79280" y="4581360"/>
            <a:ext cx="882036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92929"/>
                </a:solidFill>
                <a:latin typeface="Times New Roman"/>
              </a:rPr>
              <a:t>y</a:t>
            </a:r>
            <a:r>
              <a:rPr b="0" i="1" lang="ru-RU" sz="3200" spc="-1" strike="noStrike">
                <a:solidFill>
                  <a:srgbClr val="292929"/>
                </a:solidFill>
                <a:latin typeface="Times New Roman"/>
              </a:rPr>
              <a:t>*, </a:t>
            </a:r>
            <a:r>
              <a:rPr b="0" i="1" lang="el-GR" sz="32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π</a:t>
            </a:r>
            <a:r>
              <a:rPr b="0" i="1" lang="ru-RU" sz="3200" spc="-1" strike="noStrike">
                <a:solidFill>
                  <a:srgbClr val="292929"/>
                </a:solidFill>
                <a:latin typeface="Times New Roman"/>
                <a:ea typeface="Times New Roman"/>
              </a:rPr>
              <a:t>*</a:t>
            </a:r>
            <a:r>
              <a:rPr b="0" lang="ru-RU" sz="3200" spc="-1" strike="noStrike">
                <a:solidFill>
                  <a:srgbClr val="292929"/>
                </a:solidFill>
                <a:latin typeface="Times New Roman"/>
              </a:rPr>
              <a:t> - соответствуют общественному оптимуму </a:t>
            </a: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314280" y="3357720"/>
                <a:ext cx="8829720" cy="104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L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−</m:t>
                    </m:r>
                    <m:r>
                      <m:t xml:space="preserve">y</m:t>
                    </m:r>
                    <m:r>
                      <m:t xml:space="preserve">∗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a</m:t>
                    </m:r>
                    <m:r>
                      <m:t xml:space="preserve">(</m:t>
                    </m:r>
                    <m:r>
                      <m:t xml:space="preserve">π</m:t>
                    </m:r>
                    <m:r>
                      <m:t xml:space="preserve">−</m:t>
                    </m:r>
                    <m:r>
                      <m:t xml:space="preserve">π</m:t>
                    </m:r>
                    <m:r>
                      <m:t xml:space="preserve">∗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∗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0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Модель Кидлэнда-Прескотт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79280" y="1844280"/>
            <a:ext cx="87854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Times New Roman"/>
              </a:rPr>
              <a:t>Политик контролирует рост денежной массы, который определяет поведение агрегированного спроса</a:t>
            </a: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Times New Roman"/>
              </a:rPr>
              <a:t>Т.к неопределенность отсутствует, мы можем считать, что политик непосредственно выбирает уровень инфляции при ограничении, что инфляция и выпуск связаны соотношением (35), задающим кривую агрегированного предложения </a:t>
            </a:r>
            <a:endParaRPr b="0" lang="en-US" sz="3200" spc="-1" strike="noStrike">
              <a:solidFill>
                <a:srgbClr val="29292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16:53:29Z</dcterms:created>
  <dc:creator>Pekarski</dc:creator>
  <dc:description/>
  <dc:language>en-US</dc:language>
  <cp:lastModifiedBy>Pekarski</cp:lastModifiedBy>
  <dcterms:modified xsi:type="dcterms:W3CDTF">2005-02-08T10:21:59Z</dcterms:modified>
  <cp:revision>18</cp:revision>
  <dc:subject/>
  <dc:title>Макроэкономика</dc:title>
</cp:coreProperties>
</file>